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2AEC-6360-4ABF-BC4B-4F66ACA8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5B3B-7ECE-4B20-AEC4-8BBABF1C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ECB6-5501-43EF-A96E-F1A13D27C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D8BB-5194-44F1-BD1C-BC72157B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515F-86FB-4614-944F-01F758AA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4477-DC04-4CC9-BFBE-51B4013E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D9BF-A81F-43E4-BC06-8D1AA0F4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2061-F061-4C7B-9CFC-DBF8D6B6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36FC-51F0-470B-A730-C5E9E88C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608B-8ECC-446F-BB8E-89433BDE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FF8B-7E35-4B09-BB3E-2CA84911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B374-44C2-40FA-8482-7F5E2F44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D2C1-A7F6-4107-BF32-BCD0DC68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C383-3A02-4605-9D0B-032A8BCC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9827-AF54-4E85-BD0C-46069850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C4E8-72A3-43F7-B63F-893D9CCA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8918-A0A8-428D-8E8C-7788F3F6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80C8-B501-4E5A-B7FD-2D1774D9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2AD4-DDD9-485A-9696-716A8079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1CB2-ED17-4BDB-8B59-09A46A51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E795-DFC6-473E-9780-F99BA08D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CB0F-A126-4F25-A099-F970C8BA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87F5-1B00-4173-9E25-065ADEF4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50BD-96A7-46FB-917A-E8B1A6F8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73B0-2E01-4668-BC17-8CE946E38B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627C-61E6-4BAD-8F96-2144F93E654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Geschäftsabschlus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765240"/>
            <a:ext cx="84582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fach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rit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kaufsgesprä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Vier Schritte zum Geschäftsabschlus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etz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g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en Sie direkt nach dem Geschäftsabschl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den Sie das Verkaufsgesprä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ließen Sie das Geschäft vertrauensvoll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Versetzen Sie sich in die Lage des Kunden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eg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rteil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s ist die wichtigste Frage, die sich der Kunde ste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en Sie den Grund für den Kauf in Erfahr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nern Sie den Kunden an den Grund seines Kau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prechen Sie nur, wie der Kunde von diesem Geschäftsabschluss profitier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Fragen Sie direkt nach dem Geschäftsabschluss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darf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ka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eine Lösung vorgeschlagen, die sich am Bedarf des Kunden orien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sich das Recht erarbeitet, den Kunden jetzt zu fragen, ob Ihre vorgeschlagene Lösung gefällt und er zum Kauf bereit ist... also fragen S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Beenden Sie das Verkaufsgespräch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ß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öch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 Kunde hat Sie darum gebeten, und Sie haben die Lösung gelief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 länger sie sprechen, desto eher denkt der Kunde, Sie hätten noch keine Lösung unterbrei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chen Sie an dieser Stelle vorerst nicht weiter, um dem Kunden die Gelegenheit zu geben, sich zu entsche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Schließen Sie das Geschäft ab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chäftsabschlü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n der Kunde überzeugt ist, dass Sie Vertrauen in Ihre Lösung haben, dann wird er ebenfalls Vertrauen in Ihre Lösung ha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 entsteht durch Vorbereit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Üben Sie Ihre endgültige Präsentation in einem Rollenspiel, und bereiten Sie Antworten auf mögliche Einwände v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53Z</dcterms:modified>
  <cp:revision>24</cp:revision>
  <dc:subject/>
  <dc:title>Closing The Deal</dc:title>
</cp:coreProperties>
</file>